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2D7-B1B4-4718-B71D-4ADF9BCF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0A1-B74F-4BC6-8F5F-E59075DB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DCA-3712-41AF-9DE3-E3B18DF7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FBC-A882-4630-9650-0BEEA380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7A2-B4ED-4B50-A2C0-5CDE0E0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238-B1FB-4BFC-9F5E-9A2A4798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22A-B6A5-4E9D-9DA8-0F6EB22D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B5A-9A57-4AC2-8018-56AC415F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074-1177-4109-986A-494BDB36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FB4-FAE3-4F75-9F2C-DEBC65AC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E36-E976-47C8-94F5-2CB1445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548-2411-4575-8D63-DFDEAE7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FF2E-0FD7-41DE-97BA-B798FF28F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good.jpg"/>
          <p:cNvPicPr/>
          <p:nvPr/>
        </p:nvPicPr>
        <p:blipFill>
          <a:blip r:embed="rId1"/>
          <a:stretch/>
        </p:blipFill>
        <p:spPr>
          <a:xfrm>
            <a:off x="1592280" y="0"/>
            <a:ext cx="5959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6094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SSEMBL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8001000" y="76320"/>
            <a:ext cx="609480" cy="6781680"/>
            <a:chOff x="8001000" y="76320"/>
            <a:chExt cx="609480" cy="6781680"/>
          </a:xfrm>
        </p:grpSpPr>
        <p:sp>
          <p:nvSpPr>
            <p:cNvPr id="44" name="Title 1"/>
            <p:cNvSpPr/>
            <p:nvPr/>
          </p:nvSpPr>
          <p:spPr>
            <a:xfrm>
              <a:off x="8001000" y="76320"/>
              <a:ext cx="6094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3700" spc="-1" strike="noStrike">
                  <a:solidFill>
                    <a:srgbClr val="ffffff"/>
                  </a:solidFill>
                  <a:latin typeface="Verdana"/>
                </a:rPr>
                <a:t>DADA  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itle 1"/>
            <p:cNvSpPr/>
            <p:nvPr/>
          </p:nvSpPr>
          <p:spPr>
            <a:xfrm>
              <a:off x="8001000" y="2438280"/>
              <a:ext cx="60948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3100" spc="-1" strike="noStrike">
                  <a:solidFill>
                    <a:srgbClr val="ffffff"/>
                  </a:solidFill>
                  <a:latin typeface="Verdana"/>
                </a:rPr>
                <a:t>TECHNIQUE</a:t>
              </a:r>
              <a:r>
                <a:rPr b="0" lang="en-US" sz="37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itle 1"/>
          <p:cNvSpPr/>
          <p:nvPr/>
        </p:nvSpPr>
        <p:spPr>
          <a:xfrm>
            <a:off x="7620120" y="1905120"/>
            <a:ext cx="1447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ATHANIEL BOOM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angel.jpg"/>
          <p:cNvPicPr/>
          <p:nvPr/>
        </p:nvPicPr>
        <p:blipFill>
          <a:blip r:embed="rId1"/>
          <a:stretch/>
        </p:blipFill>
        <p:spPr>
          <a:xfrm>
            <a:off x="896760" y="0"/>
            <a:ext cx="7350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LLAGE IS SO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PASS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914400" y="58672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ASSEMBLAGE MERGES SCULPTURE </a:t>
            </a:r>
            <a:r>
              <a:rPr b="0" i="1" lang="en-US" sz="31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COLLAGE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Duchamp_LargeGlass.jpg"/>
          <p:cNvPicPr/>
          <p:nvPr/>
        </p:nvPicPr>
        <p:blipFill>
          <a:blip r:embed="rId1"/>
          <a:stretch/>
        </p:blipFill>
        <p:spPr>
          <a:xfrm>
            <a:off x="2743200" y="58680"/>
            <a:ext cx="3517920" cy="542772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838080" y="5562720"/>
            <a:ext cx="7543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ADA ARTISTS USED FOUND OBJECTS TO LAMPOON SOCIETY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6248520" y="1523880"/>
            <a:ext cx="2895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Here’s a Duchamp.  He used wire, glass and dust on this o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TAKE ADVANTAGE OF THE THIRD DIMENSION!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rms.jpg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exd20.jpg"/>
          <p:cNvPicPr/>
          <p:nvPr/>
        </p:nvPicPr>
        <p:blipFill>
          <a:blip r:embed="rId2"/>
          <a:stretch/>
        </p:blipFill>
        <p:spPr>
          <a:xfrm>
            <a:off x="5153040" y="1371600"/>
            <a:ext cx="34574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23:12:34Z</dcterms:created>
  <dc:creator>%USERNAME%</dc:creator>
  <dc:description/>
  <dc:language>en-US</dc:language>
  <cp:lastModifiedBy>profile</cp:lastModifiedBy>
  <dcterms:modified xsi:type="dcterms:W3CDTF">2010-08-11T00:11:51Z</dcterms:modified>
  <cp:revision>23</cp:revision>
  <dc:subject/>
  <dc:title>Assemblage: A Dada Technique</dc:title>
</cp:coreProperties>
</file>